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560-5F5A-48EF-A470-564C89D1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71C-CC0A-4814-8246-66B37507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9A2-5CDB-400C-9202-A87C0EC7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D85-2714-432F-9572-D5E37E0A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B5E-64E1-403A-9710-B2B00606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137-0D3D-4644-A890-C76CC49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874-1BD8-4ABD-8836-EDC18AE0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FC0-F8E0-4745-966F-F030F14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514-662E-4EF0-A84A-B4E66D7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E79-0E59-4209-BE51-AB43413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A56-679F-48E6-9226-E5E8D2CC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4B8-76D0-4269-8164-9002C9B1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EA18-1297-4559-98DF-BDAEC4F46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http://www.buzzle.com/images/geography/oas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a place in the desert made fertile by a steady supply of water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858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76320" y="-387360"/>
            <a:ext cx="1171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76320" y="-281160"/>
            <a:ext cx="14666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0" descr="http://www.ecardmedia.eu/data/media/49/Brooks%20Mountain%20Range,%20Alas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series of connected mountai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Mountain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76320" y="-471600"/>
            <a:ext cx="12859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zeb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imilar between plateau ,mesa , but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3581280" y="3429000"/>
            <a:ext cx="1219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762120" y="2362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tte is the smallest and the mesa is the medium and the plateau is he bigg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rapezoid 10"/>
          <p:cNvSpPr/>
          <p:nvPr/>
        </p:nvSpPr>
        <p:spPr>
          <a:xfrm>
            <a:off x="0" y="4267080"/>
            <a:ext cx="2666880" cy="2590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rapezoid 13"/>
          <p:cNvSpPr/>
          <p:nvPr/>
        </p:nvSpPr>
        <p:spPr>
          <a:xfrm>
            <a:off x="3352680" y="4724280"/>
            <a:ext cx="2286000" cy="2130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rapezoid 14"/>
          <p:cNvSpPr/>
          <p:nvPr/>
        </p:nvSpPr>
        <p:spPr>
          <a:xfrm>
            <a:off x="6781680" y="5334120"/>
            <a:ext cx="1752840" cy="1523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ifference between a Gulf and a B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838080" y="25909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ulf is bigger than a b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http://www.globalsecurity.org/military/facility/images/guantanamo-bay001.jpg"/>
          <p:cNvPicPr/>
          <p:nvPr/>
        </p:nvPicPr>
        <p:blipFill>
          <a:blip r:embed="rId1"/>
          <a:stretch/>
        </p:blipFill>
        <p:spPr>
          <a:xfrm>
            <a:off x="0" y="327672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c1.planetsave.com/files/2010/06/gulf-of-mexico-beach-photos.jpg"/>
          <p:cNvPicPr/>
          <p:nvPr/>
        </p:nvPicPr>
        <p:blipFill>
          <a:blip r:embed="rId2"/>
          <a:stretch/>
        </p:blipFill>
        <p:spPr>
          <a:xfrm>
            <a:off x="4495680" y="3286080"/>
            <a:ext cx="4648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difference between a river and a l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990720" y="2590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ver is smaller than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6320" y="-471600"/>
            <a:ext cx="14763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http://ak.water.usgs.gov/yukon/images/front/CharleyRiverAtYukon1.jpg"/>
          <p:cNvPicPr/>
          <p:nvPr/>
        </p:nvPicPr>
        <p:blipFill>
          <a:blip r:embed="rId2"/>
          <a:stretch/>
        </p:blipFill>
        <p:spPr>
          <a:xfrm>
            <a:off x="0" y="36576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Lake Tahoe"/>
          <p:cNvPicPr/>
          <p:nvPr/>
        </p:nvPicPr>
        <p:blipFill>
          <a:blip r:embed="rId3"/>
          <a:stretch/>
        </p:blipFill>
        <p:spPr>
          <a:xfrm>
            <a:off x="4419720" y="3657600"/>
            <a:ext cx="4724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http://pic.templetons.com/brad/photo/death-valley/carrizo/IMG_12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Edwardian Script ITC"/>
              </a:rPr>
              <a:t>What is a  large area of flat or nearly flat la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Pl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6320" y="-539640"/>
            <a:ext cx="1657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http://www.wayfaring.info/wp-content/uploads/2008/07/clifton-beach-cape-t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ladimir Script"/>
              </a:rPr>
              <a:t>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0" lang="en-US" sz="4000" spc="-1" strike="noStrike">
                <a:solidFill>
                  <a:srgbClr val="95b3d7"/>
                </a:solidFill>
                <a:latin typeface="Freestyle Script"/>
              </a:rPr>
              <a:t>What is a point of land that extends into a river, lake, or oc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76320" y="-547560"/>
            <a:ext cx="1485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http://allkindsofhistory.files.wordpress.com/2011/05/157086xcitefun-crater-lak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Lucida Handwriting"/>
              </a:rPr>
              <a:t>What is a  place where a river begi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Viner Hand ITC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76320" y="-517680"/>
            <a:ext cx="14097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Vladimir Script"/>
              </a:rPr>
              <a:t>What is a mountain created as liquid rock and ash erupt from the inside the earth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2.gstatic.com/images?q=tbn:ANd9GcQeKy2txvLAA5R1XS1lfDzWvv_o7wlqBlAj2T1hvw1tLKpC7M-6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http://www.traveladventures.org/continents/africa/images/hamm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ac090"/>
                </a:solidFill>
                <a:latin typeface="Agency FB"/>
              </a:rPr>
              <a:t>What is  high, flat landform that rises steeply above the surrounding la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76320" y="-8985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9bbb59"/>
                </a:solidFill>
                <a:latin typeface="Calibri"/>
              </a:rPr>
              <a:t>What is a Flat, low-lying land built up from soil carried downstream by a river and deposited at its mouth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7720" y="32763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http://patagonialearning.com/Images/San_Rafael/Glaci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 huge sheet of ice that moves slowly across the lan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http://t3.gstatic.com/images?q=tbn:ANd9GcSJN_0DClwgGStORPxv0lRKC31JsJIEmbbfk7vgsaSPNteJHQdA"/>
          <p:cNvPicPr/>
          <p:nvPr/>
        </p:nvPicPr>
        <p:blipFill>
          <a:blip r:embed="rId1"/>
          <a:stretch/>
        </p:blipFill>
        <p:spPr>
          <a:xfrm>
            <a:off x="0" y="-849240"/>
            <a:ext cx="9372600" cy="7707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a  very dry area where few plants gr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704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e imag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08:11Z</dcterms:modified>
  <cp:revision>30</cp:revision>
  <dc:subject/>
  <dc:title>PowerPoint Presentation</dc:title>
</cp:coreProperties>
</file>